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EA0-DACC-460E-A3B6-F9935673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EE3-E894-45A7-BB38-84639FE2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B41-D6B4-4F28-9641-2C0FF81D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4B0-789A-4186-875D-9EA40E04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BD1-7431-402D-8665-E9912567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3FB-0977-4486-8F2F-2CD81DEE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674-5175-4B46-9F8F-4D9B1BC5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E2F-224C-4D52-B30B-80ABF638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FD4-1EF8-42EA-87AF-D96D626C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BE1-5AF5-487E-9913-C15A72E5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DB7-B86C-4FB3-A9DA-E8ACF465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D73-9800-4F0E-B603-10F0E324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1430-FFE6-4C04-9154-581176128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Effect of Mass on Ballistics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Erik V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ictures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3334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3098880" cy="2324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52680" y="46483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248520" y="32004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657600" y="1219320"/>
            <a:ext cx="2260440" cy="169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6705720" y="48006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3733920" y="29718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Bibliography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ow to Make Your Own Ballistic Gel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Science Project Answers Your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yscienceproject.org/gelatin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ow to Make Your Own Ballistic Gel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Science Project Answers Your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yscienceproject.org/gelatin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Major Pandemic - MajorPandemic.com: Equipment Reviews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 Pande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ajorpandemic.com/p/equipment-reviews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Major Pandemic - MajorPandemic.com: Equipment Reviews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 Pande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ajorpandemic.com/p/equipment-reviews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VidoEmo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Emotional Video 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vidoevo.com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VidoEmo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Emotional Video 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vidoevo.com/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ed out of the same gun, using the same amount of force, is a projectile of a larger mass more likely to be more lethal or clea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Hypothesis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predict an increase in mass will also greatly increase kill percentag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Materials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aisy Powerline 880s Dual Ammo Air Rif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listics gelatin (homemade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munition as listed in resul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Materials Cont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pes #9 Solvent S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Compress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pe meas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ir and shooting st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o Nighthaw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rocedure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asure Shooting Distance (25 ft.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99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t up shooting rig at dist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99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ean air gu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rocedure Cont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y out projectiles for test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st each projectile (on same piece of gel) with Daisy and Gamo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ather 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anklin Gothic Heavy"/>
              </a:rPr>
              <a:t>Results and Conclusion</a:t>
            </a:r>
            <a:endParaRPr b="0" lang="en-US" sz="5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219320"/>
            <a:ext cx="7925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concluded that the projectile with the larger mass effected a greater area but did not penetrate as deep. I personally would take more surface area over deeper penetration ba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Results Cont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my shooting ability and gun because shooting a pellet with a larger mass automatically increases the size of your kill zone. If I had a more reliable shot it might be an intelligent thought to try a projectile that would penetrate deep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4:35:06Z</dcterms:created>
  <dc:creator>Sterling Grade School</dc:creator>
  <dc:description/>
  <dc:language>en-US</dc:language>
  <cp:lastModifiedBy>USD376</cp:lastModifiedBy>
  <dcterms:modified xsi:type="dcterms:W3CDTF">2012-03-18T20:37:57Z</dcterms:modified>
  <cp:revision>6</cp:revision>
  <dc:subject/>
  <dc:title>Title</dc:title>
</cp:coreProperties>
</file>